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23.wmf" ContentType="image/x-wmf"/>
  <Override PartName="/ppt/media/Wow2.wav" ContentType="audio/x-wav"/>
  <Override PartName="/ppt/media/image27.gif" ContentType="image/gif"/>
  <Override PartName="/ppt/media/cool.wav" ContentType="audio/x-wav"/>
  <Override PartName="/ppt/media/image4.gif" ContentType="image/gif"/>
  <Override PartName="/ppt/media/image3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bee.wav" ContentType="audio/x-wav"/>
  <Override PartName="/ppt/media/image15.gif" ContentType="image/gif"/>
  <Override PartName="/ppt/media/image14.gif" ContentType="image/gif"/>
  <Override PartName="/ppt/media/image10.wmf" ContentType="image/x-wmf"/>
  <Override PartName="/ppt/media/image13.gif" ContentType="image/gif"/>
  <Override PartName="/ppt/media/image11.gif" ContentType="image/gif"/>
  <Override PartName="/ppt/media/image30.gif" ContentType="image/gif"/>
  <Override PartName="/ppt/media/laugh.wav" ContentType="audio/x-wav"/>
  <Override PartName="/ppt/media/image16.wmf" ContentType="image/x-wmf"/>
  <Override PartName="/ppt/media/image29.gif" ContentType="image/gif"/>
  <Override PartName="/ppt/media/3leafclover.wav" ContentType="audio/x-wav"/>
  <Override PartName="/ppt/media/image31.gif" ContentType="image/gif"/>
  <Override PartName="/ppt/media/image1.gif" ContentType="image/gif"/>
  <Override PartName="/ppt/media/image12.wmf" ContentType="image/x-wmf"/>
  <Override PartName="/ppt/media/image33.gif" ContentType="image/gif"/>
  <Override PartName="/ppt/media/image8.gif" ContentType="image/gif"/>
  <Override PartName="/ppt/media/image19.wmf" ContentType="image/x-wmf"/>
  <Override PartName="/ppt/media/image26.wmf" ContentType="image/x-wmf"/>
  <Override PartName="/ppt/media/image38.jpeg" ContentType="image/jpeg"/>
  <Override PartName="/ppt/media/image35.gif" ContentType="image/gif"/>
  <Override PartName="/ppt/media/image40.png" ContentType="image/png"/>
  <Override PartName="/ppt/media/image6.gif" ContentType="image/gif"/>
  <Override PartName="/ppt/media/image36.gif" ContentType="image/gif"/>
  <Override PartName="/ppt/media/yikes.wav" ContentType="audio/x-wav"/>
  <Override PartName="/ppt/media/image7.png" ContentType="image/png"/>
  <Override PartName="/ppt/media/image3.wmf" ContentType="image/x-wmf"/>
  <Override PartName="/ppt/media/image37.gif" ContentType="image/gif"/>
  <Override PartName="/ppt/media/image39.gif" ContentType="image/gif"/>
  <Override PartName="/ppt/media/image9.gif" ContentType="image/gif"/>
  <Override PartName="/ppt/media/image5.wmf" ContentType="image/x-wmf"/>
  <Override PartName="/ppt/media/image32.gif" ContentType="image/gif"/>
  <Override PartName="/ppt/media/image2.gif" ContentType="image/gif"/>
  <Override PartName="/ppt/media/image21.wmf" ContentType="image/x-wmf"/>
  <Override PartName="/ppt/media/image25.gif" ContentType="image/gif"/>
  <Override PartName="/ppt/media/image2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703-B058-42D7-9A57-71DAEBD7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76E-E406-4D73-B5AF-0BB788BE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B86-CF10-4CEF-942F-F8FC4E14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59C-FA14-4DE0-9C8B-33DE50F2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053-BADE-42E5-864B-11FA96C1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AA3-DBA8-4218-AD86-25F14F79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0AD-333F-4385-A054-9EDDC5AB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CB3-3282-4510-AF96-C3D4E83A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585-55ED-4C4C-AD86-8AC195B4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848-3A6A-406E-889E-0060B74B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7F4-8B8D-4C42-8567-37A7A1D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B2C-40F4-4F79-9972-947CFF4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B3EB-FE08-4EBD-ADEC-A9603054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Wow2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hyperlink" Target="http://www.rockingham.k12.va.us/resources/elementary/files/SCORE.XLS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9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9.xml"/><Relationship Id="rId6" Type="http://schemas.openxmlformats.org/officeDocument/2006/relationships/slide" Target=""/><Relationship Id="rId7" Type="http://schemas.openxmlformats.org/officeDocument/2006/relationships/slide" Target="slide12.xml"/><Relationship Id="rId8" Type="http://schemas.openxmlformats.org/officeDocument/2006/relationships/slide" Target="slide18.xml"/><Relationship Id="rId9" Type="http://schemas.openxmlformats.org/officeDocument/2006/relationships/slide" Target="slide21.xml"/><Relationship Id="rId10" Type="http://schemas.openxmlformats.org/officeDocument/2006/relationships/slide" Target="slide24.xml"/><Relationship Id="rId11" Type="http://schemas.openxmlformats.org/officeDocument/2006/relationships/slide" Target="slide27.xml"/><Relationship Id="rId12" Type="http://schemas.openxmlformats.org/officeDocument/2006/relationships/slide" Target="slide33.xml"/><Relationship Id="rId13" Type="http://schemas.openxmlformats.org/officeDocument/2006/relationships/slide" Target="slide36.xml"/><Relationship Id="rId14" Type="http://schemas.openxmlformats.org/officeDocument/2006/relationships/slide" Target="slide39.xml"/><Relationship Id="rId15" Type="http://schemas.openxmlformats.org/officeDocument/2006/relationships/slide" Target="slide42.xml"/><Relationship Id="rId16" Type="http://schemas.openxmlformats.org/officeDocument/2006/relationships/slide" Target="slide48.xml"/><Relationship Id="rId17" Type="http://schemas.openxmlformats.org/officeDocument/2006/relationships/slide" Target="slide51.xml"/><Relationship Id="rId18" Type="http://schemas.openxmlformats.org/officeDocument/2006/relationships/slide" Target="slide54.xml"/><Relationship Id="rId19" Type="http://schemas.openxmlformats.org/officeDocument/2006/relationships/slide" Target="slide57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3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5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7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8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cool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0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www.rockingham.k12.va.us/resources/elementary/files/score%20by%20Laura%20Leanne.xls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5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3leafclover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yikes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9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0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laug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447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OL Weather 2nd Gr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hermometer is a tool used to measure the temperatu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2387880" cy="340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2286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w!  You’re goo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o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USA, our thermometers measure in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elci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45720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USA, our thermometers measure i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hrenhei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010280" y="5105520"/>
            <a:ext cx="1752840" cy="1752480"/>
          </a:xfrm>
          <a:custGeom>
            <a:avLst/>
            <a:gdLst>
              <a:gd name="textAreaLeft" fmla="*/ 113400 w 1752840"/>
              <a:gd name="textAreaRight" fmla="*/ 1639440 w 175284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4" h="21600">
                <a:moveTo>
                  <a:pt x="10802" y="3837"/>
                </a:moveTo>
                <a:lnTo>
                  <a:pt x="13379" y="6448"/>
                </a:ln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lnTo>
                  <a:pt x="17765" y="10800"/>
                </a:lnTo>
                <a:lnTo>
                  <a:pt x="16111" y="10800"/>
                </a:lnTo>
                <a:lnTo>
                  <a:pt x="16111" y="17989"/>
                </a:lnTo>
                <a:lnTo>
                  <a:pt x="5493" y="17989"/>
                </a:lnTo>
                <a:lnTo>
                  <a:pt x="5493" y="10800"/>
                </a:lnTo>
                <a:lnTo>
                  <a:pt x="3839" y="10800"/>
                </a:lnTo>
                <a:close/>
              </a:path>
              <a:path fill="darkenLess" w="21604" h="21600">
                <a:moveTo>
                  <a:pt x="13379" y="6448"/>
                </a:move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close/>
              </a:path>
              <a:path fill="darkenLess" w="21604" h="21600">
                <a:moveTo>
                  <a:pt x="9880" y="14299"/>
                </a:moveTo>
                <a:lnTo>
                  <a:pt x="11725" y="14299"/>
                </a:lnTo>
                <a:lnTo>
                  <a:pt x="11725" y="17989"/>
                </a:lnTo>
                <a:lnTo>
                  <a:pt x="16111" y="17989"/>
                </a:lnTo>
                <a:lnTo>
                  <a:pt x="16111" y="10800"/>
                </a:lnTo>
                <a:lnTo>
                  <a:pt x="5493" y="10800"/>
                </a:lnTo>
                <a:lnTo>
                  <a:pt x="5493" y="17989"/>
                </a:lnTo>
                <a:lnTo>
                  <a:pt x="9880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38280" y="22096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733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 rot="1629000">
            <a:off x="17640" y="1980720"/>
            <a:ext cx="9144000" cy="1113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 don't know how I could have did doubted you!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337176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772240" y="0"/>
            <a:ext cx="3371760" cy="275760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6"/>
          </p:cNvPr>
          <p:cNvSpPr/>
          <p:nvPr/>
        </p:nvSpPr>
        <p:spPr>
          <a:xfrm>
            <a:off x="42670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7621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5720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5 Topic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762120"/>
            <a:ext cx="84106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esar"/>
              </a:rPr>
              <a:t>Being a genius certaintly has its advantage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esar"/>
              <a:ea typeface="Caesar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237024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4572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380880"/>
            <a:ext cx="7924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izzar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914400" y="2585880"/>
            <a:ext cx="5283360" cy="427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oudy Heavyface"/>
              </a:rPr>
              <a:t>SOL Weather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9907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990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9907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09480" y="297180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09480" y="19810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609480" y="39625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094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9810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9718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9625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9528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9810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9718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8862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9810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8954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88620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48769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80880"/>
            <a:ext cx="838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6172200" cy="2666880"/>
          </a:xfrm>
          <a:prstGeom prst="wedgeRectCallout">
            <a:avLst>
              <a:gd name="adj1" fmla="val 74768"/>
              <a:gd name="adj2" fmla="val 42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When you’re RIGHT, you’re 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72200" y="2550960"/>
            <a:ext cx="2971800" cy="191628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57200"/>
            <a:ext cx="60199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understor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160020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28195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0"/>
            <a:ext cx="3429000" cy="3048120"/>
          </a:xfrm>
          <a:prstGeom prst="cloudCallout">
            <a:avLst>
              <a:gd name="adj1" fmla="val 50000"/>
              <a:gd name="adj2" fmla="val 312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uis!  That is what it is sheer geni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185724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3"/>
          </p:cNvPr>
          <p:cNvSpPr/>
          <p:nvPr/>
        </p:nvSpPr>
        <p:spPr>
          <a:xfrm>
            <a:off x="63244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5486400" y="167652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5486400" y="43434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5486400" y="34290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486400" y="25146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na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04344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019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ou just outsmarted 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293840" cy="4543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0958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8915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urrica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066680" y="3060720"/>
            <a:ext cx="507996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8080" y="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rill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139840"/>
            <a:ext cx="3219480" cy="270360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5943600" y="38862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943600" y="28954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5943600" y="4876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5943600" y="5867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__ is a tool used to show the direction the wind is blowing (North, South, East, or West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75920" y="719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457200"/>
            <a:ext cx="66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45720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62440" y="2438280"/>
            <a:ext cx="1012680" cy="141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371600" y="7621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ol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>
            <a:hlinkClick r:id="rId3"/>
          </p:cNvPr>
          <p:cNvSpPr/>
          <p:nvPr/>
        </p:nvSpPr>
        <p:spPr>
          <a:xfrm>
            <a:off x="632448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6553080" y="16002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6553080" y="52578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6553080" y="403848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6553080" y="2819520"/>
            <a:ext cx="2590920" cy="121896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5904" h="21600">
                <a:moveTo>
                  <a:pt x="0" y="0"/>
                </a:moveTo>
                <a:lnTo>
                  <a:pt x="45904" y="0"/>
                </a:lnTo>
                <a:lnTo>
                  <a:pt x="45904" y="21600"/>
                </a:lnTo>
                <a:lnTo>
                  <a:pt x="0" y="21600"/>
                </a:lnTo>
                <a:close/>
              </a:path>
              <a:path fill="lightenLess" w="45904" h="21600">
                <a:moveTo>
                  <a:pt x="0" y="0"/>
                </a:moveTo>
                <a:lnTo>
                  <a:pt x="45904" y="0"/>
                </a:lnTo>
                <a:lnTo>
                  <a:pt x="44504" y="1400"/>
                </a:lnTo>
                <a:lnTo>
                  <a:pt x="1400" y="1400"/>
                </a:lnTo>
                <a:close/>
              </a:path>
              <a:path fill="darken" w="45904" h="21600">
                <a:moveTo>
                  <a:pt x="45904" y="0"/>
                </a:moveTo>
                <a:lnTo>
                  <a:pt x="45904" y="21600"/>
                </a:lnTo>
                <a:lnTo>
                  <a:pt x="44504" y="20200"/>
                </a:lnTo>
                <a:lnTo>
                  <a:pt x="44504" y="1400"/>
                </a:lnTo>
                <a:close/>
              </a:path>
              <a:path fill="darkenLess" w="45904" h="21600">
                <a:moveTo>
                  <a:pt x="4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4" y="20200"/>
                </a:lnTo>
                <a:close/>
              </a:path>
              <a:path fill="lighten" w="4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915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gr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9343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600200" y="2438280"/>
            <a:ext cx="4105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2247840" cy="224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90440" y="533520"/>
            <a:ext cx="857268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're super good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t can you keep up with me?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7200"/>
            <a:ext cx="563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943600" y="16002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943600" y="52578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5943600" y="403848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5943600" y="2819520"/>
            <a:ext cx="3200400" cy="121896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6701" h="21600">
                <a:moveTo>
                  <a:pt x="0" y="0"/>
                </a:moveTo>
                <a:lnTo>
                  <a:pt x="56701" y="0"/>
                </a:lnTo>
                <a:lnTo>
                  <a:pt x="56701" y="21600"/>
                </a:lnTo>
                <a:lnTo>
                  <a:pt x="0" y="21600"/>
                </a:lnTo>
                <a:close/>
              </a:path>
              <a:path fill="lightenLess" w="56701" h="21600">
                <a:moveTo>
                  <a:pt x="0" y="0"/>
                </a:moveTo>
                <a:lnTo>
                  <a:pt x="56701" y="0"/>
                </a:lnTo>
                <a:lnTo>
                  <a:pt x="55301" y="1400"/>
                </a:lnTo>
                <a:lnTo>
                  <a:pt x="1400" y="1400"/>
                </a:lnTo>
                <a:close/>
              </a:path>
              <a:path fill="darken" w="56701" h="21600">
                <a:moveTo>
                  <a:pt x="56701" y="0"/>
                </a:moveTo>
                <a:lnTo>
                  <a:pt x="56701" y="21600"/>
                </a:lnTo>
                <a:lnTo>
                  <a:pt x="55301" y="20200"/>
                </a:lnTo>
                <a:lnTo>
                  <a:pt x="55301" y="1400"/>
                </a:lnTo>
                <a:close/>
              </a:path>
              <a:path fill="darkenLess" w="56701" h="21600">
                <a:moveTo>
                  <a:pt x="56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01" y="20200"/>
                </a:lnTo>
                <a:close/>
              </a:path>
              <a:path fill="lighten" w="56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4572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rma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182680" y="2666880"/>
            <a:ext cx="3113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324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4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Times New Roman"/>
              </a:rPr>
              <a:t>You’re bouncing along well!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38360" y="1219320"/>
            <a:ext cx="3348000" cy="363852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410080" y="1219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57200"/>
            <a:ext cx="518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5410080" y="2362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5410080" y="3505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5410080" y="4648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ather v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show the direction the wind is blowing (North, South, East, or We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11360" y="1600200"/>
            <a:ext cx="186876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4572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mouflag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365760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419720" y="3505320"/>
            <a:ext cx="23652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2124360" cy="1815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990720" y="6094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ucky Gues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1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leafclov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457200"/>
            <a:ext cx="586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6172200" y="14479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6172200" y="251460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6172200" y="46483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6172200" y="365760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bern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4008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419112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2603520" cy="3619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" y="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ou are so 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4572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 Topic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343400" y="25146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343400" y="358128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343400" y="57150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343400" y="4724280"/>
            <a:ext cx="4800600" cy="1067040"/>
          </a:xfrm>
          <a:custGeom>
            <a:avLst/>
            <a:gdLst>
              <a:gd name="textAreaLeft" fmla="*/ 69120 w 4800600"/>
              <a:gd name="textAreaRight" fmla="*/ 4731480 w 4800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97153" h="21600">
                <a:moveTo>
                  <a:pt x="0" y="0"/>
                </a:moveTo>
                <a:lnTo>
                  <a:pt x="97153" y="0"/>
                </a:lnTo>
                <a:lnTo>
                  <a:pt x="97153" y="21600"/>
                </a:lnTo>
                <a:lnTo>
                  <a:pt x="0" y="21600"/>
                </a:lnTo>
                <a:close/>
              </a:path>
              <a:path fill="lightenLess" w="97153" h="21600">
                <a:moveTo>
                  <a:pt x="0" y="0"/>
                </a:moveTo>
                <a:lnTo>
                  <a:pt x="97153" y="0"/>
                </a:lnTo>
                <a:lnTo>
                  <a:pt x="95753" y="1400"/>
                </a:lnTo>
                <a:lnTo>
                  <a:pt x="1400" y="1400"/>
                </a:lnTo>
                <a:close/>
              </a:path>
              <a:path fill="darken" w="97153" h="21600">
                <a:moveTo>
                  <a:pt x="97153" y="0"/>
                </a:moveTo>
                <a:lnTo>
                  <a:pt x="97153" y="21600"/>
                </a:lnTo>
                <a:lnTo>
                  <a:pt x="95753" y="20200"/>
                </a:lnTo>
                <a:lnTo>
                  <a:pt x="95753" y="1400"/>
                </a:lnTo>
                <a:close/>
              </a:path>
              <a:path fill="darkenLess" w="97153" h="21600">
                <a:moveTo>
                  <a:pt x="97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53" y="20200"/>
                </a:lnTo>
                <a:close/>
              </a:path>
              <a:path fill="lighten" w="97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2550960" cy="2797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0" y="0"/>
            <a:ext cx="914400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Your climbing so high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419720" y="3962520"/>
            <a:ext cx="4724280" cy="914400"/>
          </a:xfrm>
          <a:custGeom>
            <a:avLst/>
            <a:gdLst>
              <a:gd name="textAreaLeft" fmla="*/ 59040 w 4724280"/>
              <a:gd name="textAreaRight" fmla="*/ 4665240 w 4724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1562" h="21600">
                <a:moveTo>
                  <a:pt x="0" y="0"/>
                </a:moveTo>
                <a:lnTo>
                  <a:pt x="111562" y="0"/>
                </a:lnTo>
                <a:lnTo>
                  <a:pt x="111562" y="21600"/>
                </a:lnTo>
                <a:lnTo>
                  <a:pt x="0" y="21600"/>
                </a:lnTo>
                <a:close/>
              </a:path>
              <a:path fill="lightenLess" w="111562" h="21600">
                <a:moveTo>
                  <a:pt x="0" y="0"/>
                </a:moveTo>
                <a:lnTo>
                  <a:pt x="111562" y="0"/>
                </a:lnTo>
                <a:lnTo>
                  <a:pt x="110162" y="1400"/>
                </a:lnTo>
                <a:lnTo>
                  <a:pt x="1400" y="1400"/>
                </a:lnTo>
                <a:close/>
              </a:path>
              <a:path fill="darken" w="111562" h="21600">
                <a:moveTo>
                  <a:pt x="111562" y="0"/>
                </a:moveTo>
                <a:lnTo>
                  <a:pt x="111562" y="21600"/>
                </a:lnTo>
                <a:lnTo>
                  <a:pt x="110162" y="20200"/>
                </a:lnTo>
                <a:lnTo>
                  <a:pt x="110162" y="1400"/>
                </a:lnTo>
                <a:close/>
              </a:path>
              <a:path fill="darkenLess" w="111562" h="21600">
                <a:moveTo>
                  <a:pt x="111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62" y="20200"/>
                </a:lnTo>
                <a:close/>
              </a:path>
              <a:path fill="lighten" w="111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4419720" y="4876920"/>
            <a:ext cx="4724280" cy="99036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3008" h="21600">
                <a:moveTo>
                  <a:pt x="0" y="0"/>
                </a:moveTo>
                <a:lnTo>
                  <a:pt x="103008" y="0"/>
                </a:lnTo>
                <a:lnTo>
                  <a:pt x="103008" y="21600"/>
                </a:lnTo>
                <a:lnTo>
                  <a:pt x="0" y="21600"/>
                </a:lnTo>
                <a:close/>
              </a:path>
              <a:path fill="lightenLess" w="103008" h="21600">
                <a:moveTo>
                  <a:pt x="0" y="0"/>
                </a:moveTo>
                <a:lnTo>
                  <a:pt x="103008" y="0"/>
                </a:lnTo>
                <a:lnTo>
                  <a:pt x="101608" y="1400"/>
                </a:lnTo>
                <a:lnTo>
                  <a:pt x="1400" y="1400"/>
                </a:lnTo>
                <a:close/>
              </a:path>
              <a:path fill="darken" w="103008" h="21600">
                <a:moveTo>
                  <a:pt x="103008" y="0"/>
                </a:moveTo>
                <a:lnTo>
                  <a:pt x="103008" y="21600"/>
                </a:lnTo>
                <a:lnTo>
                  <a:pt x="101608" y="20200"/>
                </a:lnTo>
                <a:lnTo>
                  <a:pt x="101608" y="1400"/>
                </a:lnTo>
                <a:close/>
              </a:path>
              <a:path fill="darkenLess" w="103008" h="21600">
                <a:moveTo>
                  <a:pt x="103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08" y="20200"/>
                </a:lnTo>
                <a:close/>
              </a:path>
              <a:path fill="lighten" w="103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4419720" y="586728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swer 1 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171880" cy="13032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609480"/>
            <a:ext cx="4619880" cy="131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’re too good to catch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52480" y="990720"/>
            <a:ext cx="2770200" cy="3886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43000" y="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rvelou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304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Answer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369880" cy="2976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0"/>
            <a:ext cx="914400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autiful Day!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7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19320" y="38088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3886200" y="29718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3886200" y="3962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3886200" y="4876920"/>
            <a:ext cx="5257800" cy="99036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14640" h="21600">
                <a:moveTo>
                  <a:pt x="0" y="0"/>
                </a:moveTo>
                <a:lnTo>
                  <a:pt x="114640" y="0"/>
                </a:lnTo>
                <a:lnTo>
                  <a:pt x="114640" y="21600"/>
                </a:lnTo>
                <a:lnTo>
                  <a:pt x="0" y="21600"/>
                </a:lnTo>
                <a:close/>
              </a:path>
              <a:path fill="lightenLess" w="114640" h="21600">
                <a:moveTo>
                  <a:pt x="0" y="0"/>
                </a:moveTo>
                <a:lnTo>
                  <a:pt x="114640" y="0"/>
                </a:lnTo>
                <a:lnTo>
                  <a:pt x="113240" y="1400"/>
                </a:lnTo>
                <a:lnTo>
                  <a:pt x="1400" y="1400"/>
                </a:lnTo>
                <a:close/>
              </a:path>
              <a:path fill="darken" w="114640" h="21600">
                <a:moveTo>
                  <a:pt x="114640" y="0"/>
                </a:moveTo>
                <a:lnTo>
                  <a:pt x="114640" y="21600"/>
                </a:lnTo>
                <a:lnTo>
                  <a:pt x="113240" y="20200"/>
                </a:lnTo>
                <a:lnTo>
                  <a:pt x="113240" y="1400"/>
                </a:lnTo>
                <a:close/>
              </a:path>
              <a:path fill="darkenLess" w="114640" h="21600">
                <a:moveTo>
                  <a:pt x="114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240" y="20200"/>
                </a:lnTo>
                <a:close/>
              </a:path>
              <a:path fill="lighten" w="114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3886200" y="586728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4233960" cy="3274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09520" y="0"/>
            <a:ext cx="893448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w Nuts, You're too good!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800600" y="26668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4800600" y="4572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4800600" y="55627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4 Topic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336840" cy="2224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860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I hope children never loose their sense of wonder and pe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28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____________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3505320" y="2438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505320" y="44197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3505320" y="34290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3505320" y="1447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212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5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572000" y="2286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572000" y="327672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4572000" y="41911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4572000" y="51814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572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0"/>
            <a:ext cx="769608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CELL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3057480" cy="2344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29528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4038480" y="266688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4038480" y="3657600"/>
            <a:ext cx="4800600" cy="914400"/>
          </a:xfrm>
          <a:custGeom>
            <a:avLst/>
            <a:gdLst>
              <a:gd name="textAreaLeft" fmla="*/ 59040 w 4800600"/>
              <a:gd name="textAreaRight" fmla="*/ 4741560 w 4800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3364" h="21600">
                <a:moveTo>
                  <a:pt x="0" y="0"/>
                </a:moveTo>
                <a:lnTo>
                  <a:pt x="113364" y="0"/>
                </a:lnTo>
                <a:lnTo>
                  <a:pt x="113364" y="21600"/>
                </a:lnTo>
                <a:lnTo>
                  <a:pt x="0" y="21600"/>
                </a:lnTo>
                <a:close/>
              </a:path>
              <a:path fill="lightenLess" w="113364" h="21600">
                <a:moveTo>
                  <a:pt x="0" y="0"/>
                </a:moveTo>
                <a:lnTo>
                  <a:pt x="113364" y="0"/>
                </a:lnTo>
                <a:lnTo>
                  <a:pt x="111964" y="1400"/>
                </a:lnTo>
                <a:lnTo>
                  <a:pt x="1400" y="1400"/>
                </a:lnTo>
                <a:close/>
              </a:path>
              <a:path fill="darken" w="113364" h="21600">
                <a:moveTo>
                  <a:pt x="113364" y="0"/>
                </a:moveTo>
                <a:lnTo>
                  <a:pt x="113364" y="21600"/>
                </a:lnTo>
                <a:lnTo>
                  <a:pt x="111964" y="20200"/>
                </a:lnTo>
                <a:lnTo>
                  <a:pt x="111964" y="1400"/>
                </a:lnTo>
                <a:close/>
              </a:path>
              <a:path fill="darkenLess" w="113364" h="21600">
                <a:moveTo>
                  <a:pt x="11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4" y="20200"/>
                </a:lnTo>
                <a:close/>
              </a:path>
              <a:path fill="lighten" w="11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4038480" y="457200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038480" y="5562720"/>
            <a:ext cx="4800600" cy="99036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4672" h="21600">
                <a:moveTo>
                  <a:pt x="0" y="0"/>
                </a:moveTo>
                <a:lnTo>
                  <a:pt x="104672" y="0"/>
                </a:lnTo>
                <a:lnTo>
                  <a:pt x="104672" y="21600"/>
                </a:lnTo>
                <a:lnTo>
                  <a:pt x="0" y="21600"/>
                </a:lnTo>
                <a:close/>
              </a:path>
              <a:path fill="lightenLess" w="104672" h="21600">
                <a:moveTo>
                  <a:pt x="0" y="0"/>
                </a:moveTo>
                <a:lnTo>
                  <a:pt x="104672" y="0"/>
                </a:lnTo>
                <a:lnTo>
                  <a:pt x="103272" y="1400"/>
                </a:lnTo>
                <a:lnTo>
                  <a:pt x="1400" y="1400"/>
                </a:lnTo>
                <a:close/>
              </a:path>
              <a:path fill="darken" w="104672" h="21600">
                <a:moveTo>
                  <a:pt x="104672" y="0"/>
                </a:moveTo>
                <a:lnTo>
                  <a:pt x="104672" y="21600"/>
                </a:lnTo>
                <a:lnTo>
                  <a:pt x="103272" y="20200"/>
                </a:lnTo>
                <a:lnTo>
                  <a:pt x="103272" y="1400"/>
                </a:lnTo>
                <a:close/>
              </a:path>
              <a:path fill="darkenLess" w="104672" h="21600">
                <a:moveTo>
                  <a:pt x="10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72" y="20200"/>
                </a:lnTo>
                <a:close/>
              </a:path>
              <a:path fill="lighten" w="10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What a pickle! I am getting so many questions correc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743200" cy="3085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808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4038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066680"/>
            <a:ext cx="8534520" cy="1752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passed with flying color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1114560" cy="4457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457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3049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in gau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743200" y="14479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4300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8098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362320" y="2133720"/>
            <a:ext cx="1309680" cy="30128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533520"/>
            <a:ext cx="8686800" cy="194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o infinity and beyon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4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5638680" y="19810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5638680" y="29718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638680" y="388620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638680" y="48769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3808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4 Topic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5394240" cy="1800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0" y="609480"/>
            <a:ext cx="89154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here's no place like hom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2586240" cy="2757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533520" y="228600"/>
            <a:ext cx="807696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's up? 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2346480" cy="216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43000" y="533520"/>
            <a:ext cx="64008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're hammering away n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________ is a tool used to measure the tempera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3505320" y="38862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3505320" y="5867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3505320" y="4876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505320" y="28954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3:50:49Z</dcterms:created>
  <dc:creator>Obe Hostetter</dc:creator>
  <dc:description/>
  <dc:language>en-US</dc:language>
  <cp:lastModifiedBy>JFISHER</cp:lastModifiedBy>
  <dcterms:modified xsi:type="dcterms:W3CDTF">2010-02-25T22:36:59Z</dcterms:modified>
  <cp:revision>90</cp:revision>
  <dc:subject/>
  <dc:title>PowerPoint Presentation</dc:title>
</cp:coreProperties>
</file>